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2381-7EB8-40DD-9714-24ADE452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31ED-8097-4920-9DFA-AEE27A2D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A4B4-093F-4D62-BB3A-52FDA3689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2A8B-B548-478E-B7A9-C580A69CE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5521-C826-472F-89F5-3044511F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CA77-6FFA-4598-98CC-F0514262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F1D2-A7B7-4947-BF70-1FE20984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F915-4FE8-41FD-8FA3-677C49BE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77C7-51C6-4894-85BB-A2BDA76D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3B92-3989-4536-9D31-96F0238E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3B56-C159-4B54-B45C-02554584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8400-0DA4-4D07-9B3B-4A3EA0A5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41D4-3539-4BD4-A24D-3AFC10F3C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50000">
              <a:srgbClr val="f8b049"/>
            </a:gs>
            <a:gs pos="100000">
              <a:srgbClr val="fc9f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About Me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ULETTE SALA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Fri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so many friends and I love them ALL!!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3733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o to Cedar Grove-Belgium Middle Schoo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67080" y="3276720"/>
            <a:ext cx="2819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ff6600"/>
            </a:gs>
            <a:gs pos="100000">
              <a:srgbClr val="66ff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ove my life, I love everyone that is involved with it! My parents are very lovable, and so are my friends. My friends are ALWAYS there for me whenever I need help or ad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213372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715000" y="3733920"/>
            <a:ext cx="182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16:46Z</dcterms:created>
  <dc:creator>CGB</dc:creator>
  <dc:description/>
  <dc:language>en-US</dc:language>
  <cp:lastModifiedBy>CGB</cp:lastModifiedBy>
  <dcterms:modified xsi:type="dcterms:W3CDTF">2008-06-05T13:49:55Z</dcterms:modified>
  <cp:revision>6</cp:revision>
  <dc:subject/>
  <dc:title>Paulette Salazar</dc:title>
</cp:coreProperties>
</file>